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E67-7B7E-4F6F-BB17-EE10D7D5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8FF-2CA9-4F9F-A065-618E6930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336-AB47-44EC-8196-4E1A4989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2C2-4832-4237-A39E-023B926A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2B6-023B-4011-9294-BD88C0BC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F2F-C7A2-4679-A74E-334F9944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F8B-D7AA-4E69-B049-11D9C7D6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1EC-2216-4281-AA83-08AFA411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17D-FF8D-484C-AF58-8AB84568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11A-37D7-4182-ADD1-E0D58F33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D2D-4DE2-4117-B289-8F5DF96B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67B-E6B4-4623-80B4-C261BDDC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382E-9594-4F82-90A0-BF650954E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an 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y Auc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is known for its bitter winters . The country’s harsh climate helped stop      various invaders during its history, including the large armies of Napoleon in 1812 and Adolf Hit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6:44:53Z</dcterms:created>
  <dc:creator> </dc:creator>
  <dc:description/>
  <dc:language>en-US</dc:language>
  <cp:lastModifiedBy> </cp:lastModifiedBy>
  <dcterms:modified xsi:type="dcterms:W3CDTF">2010-12-14T17:02:14Z</dcterms:modified>
  <cp:revision>2</cp:revision>
  <dc:subject/>
  <dc:title>Climate</dc:title>
</cp:coreProperties>
</file>